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9266-E7B4-4F95-86F8-8AA5E82C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4636-CC5A-48F7-957E-0B79CCE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9AF3-3331-436D-8809-1330729E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8DB7-EBE5-4F56-9E88-43C8B1D6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79C-CDA9-4BE1-A9CB-62718127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6C6D-7DFB-493F-99E2-7B41BAF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703-4CB6-496E-84AD-2B858FE2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77A0-9342-45D1-BA93-ED3795B5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F145-A305-4411-B93E-20E92FAA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094-5983-421B-9258-041112DA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E2B-3F00-46AB-A12A-9824987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79B2-EF01-4257-BBBF-E4E0A9F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9157-59C2-463A-9FB1-F7CAF0F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5DC-8781-4466-B56B-02235B2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B1B9-384C-4804-A03D-25E8F7D3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E430-A700-4553-AE07-7261B727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FED0-1219-4A24-AFB6-82D60F93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7C71-7839-42DA-857B-61DA16F8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F0AE-F43A-40B7-9B51-C05E564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3153-7533-45D0-92A7-B8A269B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47E1-E4DA-40C5-910C-CB5B4F0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95CF-2B44-49CD-9F83-D68B54E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3F87-592D-4AAA-A462-72E3000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BAC5-7FF7-48DA-83F5-E6BAB24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1D82-E4BD-4406-B9B3-9ED0E86BFDA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BC8-E229-4E51-A6AD-3A5DDFD7EA2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-113760"/>
            <a:ext cx="8928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0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одино, родин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ден безсп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тремим се ние с копнеж към Теб и твоя вечен 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тук е наш'та род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тук е домът 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одината ни е в небес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Бога, за вси д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/Повтарят се първите четири реда от всеки куплет като припев/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коро веч, скоро в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ме горе т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ангели ведно и 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ем в горний хр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Агнеца, за нас закла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валим 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лънце и от слънчев п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вечен е покр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ко ощ', малко ощ'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ще дойде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вечна радост, щастие, м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бъдем ние тогаз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е видяло тук ок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е ни чул чов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уй, що Господ зарад нас приготвил е во век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32:02Z</dcterms:modified>
  <cp:revision>69</cp:revision>
  <dc:subject/>
  <dc:title>Slide 1</dc:title>
</cp:coreProperties>
</file>